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228-77A2-4E43-9445-4FA6A87E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AC8E-73F3-485A-9C53-2F28D07C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389-102C-407B-B491-90E401C1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A31C-8174-44D3-B8B8-40281DBF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9AB6-88AB-4EAD-AE92-81309980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C32A-60F1-4624-A952-339649B7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00BE-78E7-485C-9519-3976148F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26EE-BBF9-4978-AAF3-9EF98C4A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ABAE-3E49-430E-8812-FE4F78AE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0F88-3284-4D51-A9EE-4D6E358B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B575-32C1-4262-B03C-303AD591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A6B9-B688-4F25-B32D-198D4022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8904-C219-4907-A9BE-002054F0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C41F-DF46-4DB4-A047-D0CB4F8D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918C-475A-429B-B77B-74B3E60D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9E83-FC5A-4767-820C-4482229B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BF90-1C03-4F13-B526-82B40D9F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C1A-28CB-4FCC-8B94-D84192EC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760-6D3C-46BE-AF49-5E408FEA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A63A-47BF-4416-A276-1A97B849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2C75-BA69-4B66-87CB-D18B8624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D711-33B7-4709-9A6E-391FFBCE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A4E-2AE1-41A0-8905-B5610321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3E78-F582-4607-B879-B55ED3BB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1A35-B097-4EFC-911A-35EDCD9B1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6134-19C1-4C7F-ABF7-4975F9C72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6840" y="456840"/>
            <a:ext cx="6291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13400" y="621036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0000"/>
                </a:solidFill>
                <a:latin typeface="Times New Roman"/>
              </a:rPr>
              <a:t>Département des Finances &amp; de l’Écono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76212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sz="5400" spc="-1" strike="noStrike">
                <a:solidFill>
                  <a:srgbClr val="cc0000"/>
                </a:solidFill>
                <a:latin typeface="Times New Roman"/>
              </a:rPr>
              <a:t>European Banking Fede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0292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cc0000"/>
                </a:solidFill>
                <a:latin typeface="Times New Roman"/>
              </a:rPr>
              <a:t>Monaco, Ju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ance   : 28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onaco : 2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aly       : 1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K        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lgium : 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760" y="1828800"/>
            <a:ext cx="5374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reak down by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tionality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09680"/>
            <a:ext cx="7086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D – Focus 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sz="4400" spc="-1" strike="noStrike">
                <a:solidFill>
                  <a:srgbClr val="cc0000"/>
                </a:solidFill>
                <a:latin typeface="Arial"/>
              </a:rPr>
              <a:t>Banking activiti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 – Banking activitie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42 credit institutions 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subsidiaries or branches from European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UM  : 75 billion 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7924680" cy="21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1. A close and long standing relationship with Franc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1.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Monaco and France :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A monetary union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well before the euro zone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2 Implementation of the French banking regulation : CCLRF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3 licensing by French Committee 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CEC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1.4 Supervision by the French authoritie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Commission Banc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2. Monaco – part of the Euro zon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8288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 Econom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 </a:t>
            </a:r>
            <a:br>
              <a:rPr sz="4000"/>
            </a:b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28954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1 Monaco joined the Euro z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on 1.1.200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2 Monaco has recently joined SEPA   :    March 2009</a:t>
            </a:r>
            <a:br>
              <a:rPr sz="48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 – Monaco GDP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A – GDP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1700280"/>
            <a:ext cx="69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600200"/>
            <a:ext cx="784872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DP 2007: 4,3 billion €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round 15 % growt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DP  per capita : 60 K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09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ctors : 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rade   : 16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anking and finance : 15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pport activities: 15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l Estate : 10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ourism  : 10 %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83808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 –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B – Monaco Budget </a:t>
            </a:r>
            <a:br>
              <a:rPr sz="4000"/>
            </a:b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 - Budget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Budget : 900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    :  75% of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es : very strong social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M€ in public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ublic deb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2008  :  + 4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0481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 – Monaco pop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35 000 resi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Working population : 45.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eak down by continent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urope : 92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continents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16:25Z</dcterms:created>
  <dc:creator> </dc:creator>
  <dc:description/>
  <dc:language>en-US</dc:language>
  <cp:lastModifiedBy>Service Informatique</cp:lastModifiedBy>
  <dcterms:modified xsi:type="dcterms:W3CDTF">2009-06-18T06:45:30Z</dcterms:modified>
  <cp:revision>118</cp:revision>
  <dc:subject/>
  <dc:title>Conférence des Ambassadeurs</dc:title>
</cp:coreProperties>
</file>